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75655"/>
        <c:axId val="27639790"/>
      </c:barChart>
      <c:catAx>
        <c:axId val="25075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9790"/>
        <c:crosses val="autoZero"/>
        <c:auto val="1"/>
        <c:lblAlgn val="ctr"/>
        <c:lblOffset val="100"/>
        <c:noMultiLvlLbl val="0"/>
      </c:catAx>
      <c:valAx>
        <c:axId val="27639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75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48C-71CB-4EA6-9729-B0BB4202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4E9-E479-4F59-B236-8B212C25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34A-2A2B-4917-B36D-1A4272EA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D9E-019F-43A0-B8ED-B0594F35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F05-40DE-4632-9829-685991B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72F-D971-4821-8C5F-22E97B6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733-FBEB-4E1B-B8A8-EB9CB57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C46-8A0C-4791-8602-8B168C6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EF4-6B61-4F5F-B329-157939F0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52D-8C39-47BB-AC3A-72314E6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B2F-06A6-433C-8176-63D4244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19D-B539-4FC8-AF18-033AFD2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2C32D-74E0-402C-A36D-301305DCE2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