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727462"/>
        <c:axId val="29074468"/>
      </c:barChart>
      <c:catAx>
        <c:axId val="737274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74468"/>
        <c:crosses val="autoZero"/>
        <c:auto val="1"/>
        <c:lblAlgn val="ctr"/>
        <c:lblOffset val="100"/>
        <c:noMultiLvlLbl val="0"/>
      </c:catAx>
      <c:valAx>
        <c:axId val="290744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7274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75DE-B402-4E7B-BF3A-34674732B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73D2-E794-46D1-B921-99DDE05D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BA0A-8124-434A-95F7-1F7B3B3D5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9B13-8345-443C-8C3C-C7DAF585C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14C4-0295-467D-B6D0-F8ED671D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633C-A299-4034-997B-177692ED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61C8-55C5-487A-B563-93974B44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4FA2-8F5D-4660-8248-841FD7BD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AF65-48D1-41DB-9BD2-9A72EE83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287D-041D-4028-AE80-95D79103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C290-E8B0-4B29-B581-59301A9F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8E3E-9017-4C47-8ED3-B840B26E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51D35-077F-4EB9-8B9E-2D449EC776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