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01847"/>
        <c:axId val="36181096"/>
      </c:barChart>
      <c:catAx>
        <c:axId val="58701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81096"/>
        <c:crosses val="autoZero"/>
        <c:auto val="1"/>
        <c:lblAlgn val="ctr"/>
        <c:lblOffset val="100"/>
        <c:noMultiLvlLbl val="0"/>
      </c:catAx>
      <c:valAx>
        <c:axId val="36181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01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5E7-FEE6-435D-8BAD-227D8882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F71-C9D3-4DE3-9737-4447CA03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A6D-BF30-4969-B1AF-0B170A35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9AA-1D96-47BA-A251-2875CEF5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86C-D5EC-4047-AD0B-39EB50E4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C19-1970-45C2-AC3C-C0228F26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50C-73D9-4427-B0AC-FA928365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19F-151B-4EEC-99A2-BE43C496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7E0-0763-4632-A2CB-62B3A107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92FC-B2E2-4E0C-911C-AD08ACC9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A3A-66BF-499C-9A1B-D6D90E56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8C3-352F-4F2B-8ACD-6C82A4A2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ECE17-0BC5-4365-933C-11555C75BB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