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99004"/>
        <c:axId val="52430812"/>
      </c:barChart>
      <c:catAx>
        <c:axId val="20799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30812"/>
        <c:crosses val="autoZero"/>
        <c:auto val="1"/>
        <c:lblAlgn val="ctr"/>
        <c:lblOffset val="100"/>
        <c:noMultiLvlLbl val="0"/>
      </c:catAx>
      <c:valAx>
        <c:axId val="52430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99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DF8-3BFB-49B8-BB19-475645CA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3D7-9F51-45AE-8E76-B494FD21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801-34B4-43F6-9795-76FC5616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D1B-5B83-4633-BD48-7264A653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B5E-468D-438F-90AC-E4051911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E5A-F9E2-486C-8205-E4DD0F24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661-90BC-482D-AE8C-C3DE2B60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DDF-0A4D-44B3-9763-87AD6907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D7F-D293-4718-8834-EA563D49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D85-F58A-4850-908A-29B208CD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5D0-A56A-4B4E-97A7-D712DEB1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BB8-8260-4730-AB8C-C3E081C9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F607F-3C36-4A51-83E4-C5D7BB2B40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