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71202"/>
        <c:axId val="69378623"/>
      </c:barChart>
      <c:catAx>
        <c:axId val="73871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8623"/>
        <c:crosses val="autoZero"/>
        <c:auto val="1"/>
        <c:lblAlgn val="ctr"/>
        <c:lblOffset val="100"/>
        <c:noMultiLvlLbl val="0"/>
      </c:catAx>
      <c:valAx>
        <c:axId val="69378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1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F9B-8B80-4406-852B-F7392690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3B4-F173-41E6-A1EE-CCEE1A8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BEB-F9E8-4870-A835-9F2E4D7C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28F-6BE8-40BF-8CF1-7B10248D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31D-9362-4795-B48D-9FC4375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F95-5129-48CF-AB76-A03019D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39F-6485-44A9-AA61-C12C9AF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592-E99E-4B75-8660-3C8C1552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7CA-9432-4CEA-8D59-CBE4B57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B1B-A1E7-460D-9FAD-F296897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5D0-593C-4C14-84E9-3C63C92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D22-F5F4-4C63-AAAB-6564523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A5ABF-BA7A-4FD3-879F-CDB3FEE6A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