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39379"/>
        <c:axId val="1690483"/>
      </c:barChart>
      <c:catAx>
        <c:axId val="82939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0483"/>
        <c:crosses val="autoZero"/>
        <c:auto val="1"/>
        <c:lblAlgn val="ctr"/>
        <c:lblOffset val="100"/>
        <c:noMultiLvlLbl val="0"/>
      </c:catAx>
      <c:valAx>
        <c:axId val="1690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39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BEF-681A-4719-B43B-5FF64746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E66-DE69-4936-94B2-F9293DF6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D17-8ADF-46A3-8AE8-6F91D6F8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321-F6F4-458F-91A2-FF331753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93E-4919-44CE-AF3F-03DC33B2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F26-2E27-42BB-9FAE-1A09C8F7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8BF-F508-4B25-BEF8-73697DE3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004-E9B3-4CBF-8A0E-FB037CDD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E65-FD60-4A30-8C90-3AA4031C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DE2-4B01-4781-872C-B8440B80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B57-4511-4144-9AC9-D5C65A30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DEC-4994-49FA-9707-5A0EB151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60DAC-CCED-4306-B5E4-060126561E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