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51110"/>
        <c:axId val="82129834"/>
      </c:barChart>
      <c:catAx>
        <c:axId val="12951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9834"/>
        <c:crosses val="autoZero"/>
        <c:auto val="1"/>
        <c:lblAlgn val="ctr"/>
        <c:lblOffset val="100"/>
        <c:noMultiLvlLbl val="0"/>
      </c:catAx>
      <c:valAx>
        <c:axId val="82129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51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D8C-93FA-4C7E-97B0-E44C4BD1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28D-3F56-4AE0-B7EE-43C2FBB7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EE6-633A-4637-A17E-045A791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2F9-F5AF-4928-A2BA-56801BE8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A6F-A16B-4183-9EEE-9DA0FEC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B10-A982-46EB-8410-A76DEC6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3C6-19FF-4EC4-9A89-F0C4EDC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0FB-1691-48D9-9D5D-37B878D9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C3A-7DE5-4EEC-985E-D9802019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FE3-211F-423B-B67C-C88B905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ECC-BA4B-4FC6-8B1F-FD4A0BC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1E7-0DB6-4DC8-B2A2-DE48CD3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57AAC-E88F-419E-A577-77AA552C5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